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26.wmf" ContentType="image/x-wmf"/>
  <Override PartName="/ppt/media/image4.png" ContentType="image/png"/>
  <Override PartName="/ppt/media/image27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781-8E29-4620-ADFD-BE6D7BA0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4A7-4740-49D1-8C9C-64A8615C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4B1-5996-47CF-90F6-8B9E115F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B2B-A7CE-4F4C-89D2-6D7F890F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BA69-205E-4F14-90E6-A85CD74B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D229-ABAA-4160-AF11-206F8FF5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20C5-95FC-4F26-97C2-B8F249CB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A127-678D-49AD-BE93-71182A8C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EFDB-8E09-48C3-AB62-1AA62F0C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CBA1-F5CB-4527-B197-12078221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AB1F-4E6E-42B4-A4C7-D2A68B7B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A43-FDB4-4BD3-AAD0-88F6088A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5B12-E35D-433B-A3C5-D99FACCE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C687-9FB3-492D-8F58-DB14CC42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F629-23EA-4224-87D9-46B235D3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8FA4-5985-4FAD-BA27-178C6BC3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0009-1FC5-4AE5-AE5F-83EFDFB7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53595-6196-4426-BD7E-EA99BADA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227D3-F3F9-41AE-A34B-157DB634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7AA5A-E81A-4A3F-9ED3-24C00483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572CD-E454-4A42-BA3F-4183FA16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D9560-2568-4D34-AE1E-9995C72C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96DF-3648-4F4A-BE91-E0F5B372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1EE6-BF5F-44FA-904C-5B47403F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9627F-7486-4823-8946-5A27FC80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43019-693F-44E7-B032-ED390541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10852-E917-401E-8EB5-FE545929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6CA94-9D2E-406B-ACA9-F6CF8F28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1DE32-5907-4AD5-93CE-2488789B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0C34D-841F-46CB-92B9-A3100135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3BA3F-4676-47BC-BF9A-C96A4978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332DD-F601-4BD6-B3AC-D7E17AFC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40E87-F0A2-4C53-8E94-49DE1CE3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767-CD1C-4508-BD5E-4F935661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C49D7-EB1E-47A6-9C4A-9980BDE8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12F81-DAB1-47C9-A945-7153A784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918A0-EBE5-4606-B89E-760E7123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7D177-31EA-41F7-8DCF-86B8AB5F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10780-1EBC-4683-BF42-437E8127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CCE6C-1B56-44CB-BECB-2D649278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D6FEE-258F-42AB-B6B1-F91A4C6C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CAC0E-8073-413C-ABFC-D8E4FFD6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807FB-7F4D-4463-AC83-138E329E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427C3-1C74-450E-BD40-7B4109DC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D1A-F186-4D30-90CE-96177813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B47EA-A6E9-4164-9038-9CC95E11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E272A-0D61-45F8-BE49-9B95A53B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844E5-6FDD-4F13-B5F1-938189D2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074C7-A190-4BF3-9461-7D5616F4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79CEE-3935-4E21-A52D-5F110C5D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3F88A-E59E-4504-AFE9-4CB9C6D1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D3DB3-0B99-452F-AC3F-75DB1BC9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D15FC-45A5-41DF-B181-DECD288E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99E95-079D-461A-83DA-38EF80AF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1799B-1331-42B6-A151-EE27F0AF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1D2-EB58-4C98-A25B-DF1F166A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21C65-F3CB-4908-AD48-9B4E5149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B74CC-2068-404A-9BA0-7BB777EB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08FDF-247D-4A3B-94AF-46DA7279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13F46-7A73-4B70-B5A2-9A551FE0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C7C87-0F5C-4986-87A3-52C39E89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484B1-8656-4B12-A677-EB40F556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021B5-9C24-4DCA-BB3F-26B7F3A3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5F834-49EC-4597-8B1E-42DC5E0B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D3F44-EFF1-4F0D-8E5E-F7BEBE4E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29FE8-EA76-4FFC-A830-4A35B940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B8A-3595-422E-88AE-983CEDCA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49A30-EF89-4FFC-A432-2AED00E6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E47B7-7E94-48D5-AE2E-AC884BDE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5DD8B-12AC-47CB-B106-B0BA141A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32651-515A-4F63-AAA8-5C472139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2E4CF-E78A-43C3-9596-8B88E7E9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6C303-3815-495F-A47C-E27355C5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FE10C-8263-47EA-AB63-134D8330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BD0FA-7560-4A35-AF86-56449B64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8DE73-2A87-4118-B00A-88A3A6C6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FE805-1B54-4772-B5F0-EE0D919E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CBD-D3BF-43B8-A732-ADE2E6A7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6F893-FADB-43F0-BE46-61BD6936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29608-B2BD-40FD-B2BE-529F4BB6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37916-CE3F-48E1-9C81-AE3A26BD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F9D4F-C5D9-4454-B092-F1A14D89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8854D-9A56-452E-B076-7029DEA7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1F6F7-103A-4C4A-B4AD-023F2D01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D2882-73B5-424F-B395-94373887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299D5-CB41-4FD3-A3D8-96D54453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C2A9D-7456-4B7A-BE3E-BF3CEE3E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B16B3-792C-4B85-AEA7-0254E6D8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72CE-5738-4138-BF88-7382B0F1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95E4C-666F-434B-95C1-54D03579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F1F2D-814F-4BC9-99C4-1A7269D7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E1B0D-2BDE-4A0E-A5A7-AE0262FC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05F3A-30F9-4A0F-98B1-CFFFFECC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799A0-F43E-4325-9D9B-2F8044BC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D2248-C625-4BBE-A4EB-A1175B62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98BE9-94D2-4E95-94A8-F5AADE51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290D-A9C6-4DE3-BEFF-27A3E93EF47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95C8-26A0-4C75-9AD4-1FD037FBC88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2C74-C601-4B93-BC1F-C294B653A669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AC08-7AB8-495F-A38A-7DCDB6E5EA1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880F-AC55-429E-90F7-F4C619B1BE6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F99A-717B-4E7D-B488-E7E3AC8A3C2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F3CC-DBA4-4264-BF1C-B889AC69E61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59AF-35D0-4541-A2C8-AAF27D3CDA19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33240" y="895320"/>
            <a:ext cx="8321760" cy="2579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a1"/>
          <p:cNvPicPr/>
          <p:nvPr/>
        </p:nvPicPr>
        <p:blipFill>
          <a:blip r:embed="rId2"/>
          <a:stretch/>
        </p:blipFill>
        <p:spPr>
          <a:xfrm>
            <a:off x="1063800" y="3500280"/>
            <a:ext cx="2936880" cy="3016440"/>
          </a:xfrm>
          <a:prstGeom prst="rect">
            <a:avLst/>
          </a:prstGeom>
          <a:ln w="0">
            <a:noFill/>
          </a:ln>
        </p:spPr>
      </p:pic>
      <p:sp>
        <p:nvSpPr>
          <p:cNvPr id="361" name="Дата 4"/>
          <p:cNvSpPr/>
          <p:nvPr/>
        </p:nvSpPr>
        <p:spPr>
          <a:xfrm>
            <a:off x="2286000" y="500040"/>
            <a:ext cx="327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eaee"/>
                </a:solidFill>
                <a:latin typeface="Times New Roman"/>
                <a:ea typeface="Times New Roman"/>
              </a:rPr>
              <a:t>24 октября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3929040" y="45720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Чердынская СОШ им. А. Спирина», учитель: Светлана Владимировна Бил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Овал 1"/>
          <p:cNvGrpSpPr/>
          <p:nvPr/>
        </p:nvGrpSpPr>
        <p:grpSpPr>
          <a:xfrm>
            <a:off x="1427040" y="2889360"/>
            <a:ext cx="792360" cy="792000"/>
            <a:chOff x="1427040" y="2889360"/>
            <a:chExt cx="792360" cy="792000"/>
          </a:xfrm>
        </p:grpSpPr>
        <p:pic>
          <p:nvPicPr>
            <p:cNvPr id="396" name="Овал 1" descr=""/>
            <p:cNvPicPr/>
            <p:nvPr/>
          </p:nvPicPr>
          <p:blipFill>
            <a:blip r:embed="rId1"/>
            <a:stretch/>
          </p:blipFill>
          <p:spPr>
            <a:xfrm>
              <a:off x="1427040" y="288936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593720" y="30225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27 0.01342 C 0.09254 -0.10777 0.1658 -0.21299 0.26406 -0.22016 C 0.35799 -0.22918 0.44584 -0.14778 0.45174 -0.03006 C 0.4592 0.0784 0.39757 0.17993 0.30938 0.1871 C 0.229 0.19265 0.15261 0.12558 0.1467 0.02429 C 0.1408 -0.06799 0.19219 -0.15494 0.26684 -0.16211 C 0.33594 -0.16743 0.40052 -0.11124 0.40486 -0.02659 C 0.4092 0.0495 0.36823 0.1235 0.3066 0.12766 C 0.25087 0.13298 0.19809 0.08927 0.19358 0.02059 C 0.1908 -0.04093 0.22153 -0.1006 0.26997 -0.10407 C 0.3125 -0.10777 0.35504 -0.07516 0.35799 -0.02266 C 0.36077 0.02244 0.33889 0.06568 0.30347 0.06962 C 0.27431 0.07285 0.2434 0.0532 0.24184 0.01712 C 0.23906 -0.01202 0.25087 -0.04278 0.27275 -0.04625 C 0.29063 -0.04625 0.30816 -0.03908 0.31094 -0.01942 C 0.3125 -0.00647 0.30938 0.00602 0.3007 0.01134 C 0.29636 0.01342 0.2934 0.01342 0.28906 0.01134 E">
                                      <p:cBhvr>
                                        <p:cTn id="86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Овал 4"/>
          <p:cNvSpPr/>
          <p:nvPr/>
        </p:nvSpPr>
        <p:spPr>
          <a:xfrm>
            <a:off x="3581280" y="1828800"/>
            <a:ext cx="990720" cy="838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13321 C 0.1007 -0.13321 0.16667 -0.07332 0.16667 -0.00024 C 0.16667 0.08649 0.09375 0.11748 0.04966 0.13066 L -0.0085 0.14431 C -0.05208 0.15749 -0.125 0.19079 -0.125 0.28839 C -0.125 0.3506 -0.05955 0.42183 0.02084 0.42183 C 0.1007 0.42183 0.16667 0.3506 0.16667 0.28839 C 0.16667 0.19079 0.09375 0.15749 0.04966 0.14431 L -0.0085 0.13066 C -0.05208 0.11748 -0.125 0.08649 -0.125 -0.00024 C -0.125 -0.07332 -0.05955 -0.13321 0.02084 -0.13321 Z">
                                      <p:cBhvr>
                                        <p:cTn id="9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401" name="Овал 3"/>
          <p:cNvSpPr/>
          <p:nvPr/>
        </p:nvSpPr>
        <p:spPr>
          <a:xfrm>
            <a:off x="3733920" y="2438280"/>
            <a:ext cx="685800" cy="685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25 -0.00555 L -0.26389 0.38298 L -0.2177 -0.00555 L -0.16857 0.38298 L -0.11961 -0.00555 L -0.07395 0.38298 L -0.02465 -0.00555 L 0.02153 0.38298 L 0.07084 -0.00555 L 0.11945 0.38298 L 0.16563 -0.00555 L 0.21476 0.38298 L 0.26042 -0.00555 L 0.30938 0.38298 L 0.35868 -0.00555 L 0.40486 0.38298 L 0.45417 -0.00555 E">
                                      <p:cBhvr>
                                        <p:cTn id="98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Работа на компьютер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3" name="Picture 4" descr="C:\Documents and Settings\Пользователь\Рабочий стол\с1.jpg"/>
          <p:cNvPicPr/>
          <p:nvPr/>
        </p:nvPicPr>
        <p:blipFill>
          <a:blip r:embed="rId1"/>
          <a:stretch/>
        </p:blipFill>
        <p:spPr>
          <a:xfrm>
            <a:off x="1928880" y="228600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5628" t="5484" r="9664" b="41168"/>
          <a:stretch/>
        </p:blipFill>
        <p:spPr>
          <a:xfrm>
            <a:off x="1214280" y="857160"/>
            <a:ext cx="6864480" cy="55389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428920" y="5000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4286160" y="50007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621504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 Ы Ш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192888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 О С И Т Е Л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385776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 И С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585792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 З Б У К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j0397224"/>
          <p:cNvPicPr/>
          <p:nvPr/>
        </p:nvPicPr>
        <p:blipFill>
          <a:blip r:embed="rId1"/>
          <a:stretch/>
        </p:blipFill>
        <p:spPr>
          <a:xfrm>
            <a:off x="7286760" y="5214960"/>
            <a:ext cx="1611000" cy="1316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вное, что мы должны понять и запомни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дированное сообщение можно декодировать, если известно правило кодирования или имеется кодировочная табли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цию, которая содержится в закодированном сообщении, человек может получить, только декодировав е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5" descr="j0397202"/>
          <p:cNvPicPr/>
          <p:nvPr/>
        </p:nvPicPr>
        <p:blipFill>
          <a:blip r:embed="rId2"/>
          <a:stretch/>
        </p:blipFill>
        <p:spPr>
          <a:xfrm rot="13644600">
            <a:off x="7907760" y="4469040"/>
            <a:ext cx="1082520" cy="8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Picture 4" descr="j0410909"/>
          <p:cNvPicPr/>
          <p:nvPr/>
        </p:nvPicPr>
        <p:blipFill>
          <a:blip r:embed="rId1"/>
          <a:stretch/>
        </p:blipFill>
        <p:spPr>
          <a:xfrm>
            <a:off x="3000240" y="278604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Попробуйте дополнить пред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егодня на уроке я узнал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интерес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труд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Теперь я могу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егодня я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научился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меня получилось 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еня удивил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225520"/>
            <a:ext cx="7907400" cy="1256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Пользователь\Рабочий стол\с2.jpg"/>
          <p:cNvPicPr/>
          <p:nvPr/>
        </p:nvPicPr>
        <p:blipFill>
          <a:blip r:embed="rId2"/>
          <a:stretch/>
        </p:blipFill>
        <p:spPr>
          <a:xfrm>
            <a:off x="3357720" y="3571920"/>
            <a:ext cx="2581200" cy="2774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Вспомни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чем люди кодируют информа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способы кодирования ты знаеш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яется ли смысл сообщения при кодирован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аком виде информация запоминается в памяти компьютер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5" descr="BD05012_"/>
          <p:cNvPicPr/>
          <p:nvPr/>
        </p:nvPicPr>
        <p:blipFill>
          <a:blip r:embed="rId1"/>
          <a:stretch/>
        </p:blipFill>
        <p:spPr>
          <a:xfrm>
            <a:off x="6715080" y="4572000"/>
            <a:ext cx="1779480" cy="155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Автогонк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7" name="Picture 2" descr="C:\Documents and Settings\Пользователь\Рабочий стол\с3.jpg"/>
          <p:cNvPicPr/>
          <p:nvPr/>
        </p:nvPicPr>
        <p:blipFill>
          <a:blip r:embed="rId1"/>
          <a:stretch/>
        </p:blipFill>
        <p:spPr>
          <a:xfrm>
            <a:off x="428760" y="2000160"/>
            <a:ext cx="2643120" cy="2167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Пользователь\Рабочий стол\с4.gif"/>
          <p:cNvPicPr/>
          <p:nvPr/>
        </p:nvPicPr>
        <p:blipFill>
          <a:blip r:embed="rId2"/>
          <a:stretch/>
        </p:blipFill>
        <p:spPr>
          <a:xfrm>
            <a:off x="2071800" y="3929040"/>
            <a:ext cx="6762600" cy="253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6" descr="j0210200"/>
          <p:cNvPicPr/>
          <p:nvPr/>
        </p:nvPicPr>
        <p:blipFill>
          <a:blip r:embed="rId1"/>
          <a:stretch/>
        </p:blipFill>
        <p:spPr>
          <a:xfrm>
            <a:off x="920880" y="281160"/>
            <a:ext cx="7016760" cy="6216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071720" y="207180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, как и кодирование, изменение формы представления информации без изменения смыс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818040" cy="2316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357200" y="3571920"/>
            <a:ext cx="6261120" cy="2438280"/>
          </a:xfrm>
          <a:prstGeom prst="rect">
            <a:avLst/>
          </a:prstGeom>
          <a:ln w="0">
            <a:noFill/>
          </a:ln>
        </p:spPr>
      </p:pic>
      <p:cxnSp>
        <p:nvCxnSpPr>
          <p:cNvPr id="373" name="Прямая со стрелкой 8"/>
          <p:cNvCxnSpPr/>
          <p:nvPr/>
        </p:nvCxnSpPr>
        <p:spPr>
          <a:xfrm>
            <a:off x="4143240" y="4428720"/>
            <a:ext cx="15724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>
            <a:off x="4143240" y="4857840"/>
            <a:ext cx="1572480" cy="35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143240" y="5214600"/>
            <a:ext cx="1572480" cy="4294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 flipV="1">
            <a:off x="4143240" y="4785840"/>
            <a:ext cx="1572480" cy="858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Лента лицом вверх 4"/>
          <p:cNvSpPr/>
          <p:nvPr/>
        </p:nvSpPr>
        <p:spPr>
          <a:xfrm>
            <a:off x="500040" y="507204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нта лицом вверх 3"/>
          <p:cNvSpPr/>
          <p:nvPr/>
        </p:nvSpPr>
        <p:spPr>
          <a:xfrm>
            <a:off x="500040" y="92880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856880" y="928800"/>
            <a:ext cx="5286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01 19 20 07 20  20 18 01 03 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А С Т Ё Т   Т Р А В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4294" t="65475" r="7156" b="11390"/>
          <a:stretch/>
        </p:blipFill>
        <p:spPr>
          <a:xfrm>
            <a:off x="642960" y="1928880"/>
            <a:ext cx="8039160" cy="278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rcRect l="5204" t="5798" r="6053" b="63892"/>
          <a:stretch/>
        </p:blipFill>
        <p:spPr>
          <a:xfrm>
            <a:off x="2428920" y="714240"/>
            <a:ext cx="6286320" cy="2847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rcRect l="5194" t="65475" r="6810" b="11390"/>
          <a:stretch/>
        </p:blipFill>
        <p:spPr>
          <a:xfrm>
            <a:off x="785880" y="3429000"/>
            <a:ext cx="7929360" cy="276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j0404643"/>
          <p:cNvPicPr/>
          <p:nvPr/>
        </p:nvPicPr>
        <p:blipFill>
          <a:blip r:embed="rId3"/>
          <a:stretch/>
        </p:blipFill>
        <p:spPr>
          <a:xfrm>
            <a:off x="357120" y="1500120"/>
            <a:ext cx="1924200" cy="1677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357192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542916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7286760" y="19875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И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3500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Х Л Е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9"/>
          <p:cNvSpPr/>
          <p:nvPr/>
        </p:nvSpPr>
        <p:spPr>
          <a:xfrm>
            <a:off x="528624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0"/>
          <p:cNvSpPr/>
          <p:nvPr/>
        </p:nvSpPr>
        <p:spPr>
          <a:xfrm>
            <a:off x="6929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dd9"/>
                </a:solidFill>
                <a:latin typeface="Constantia"/>
              </a:rPr>
              <a:t>Минутка отдых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Овал 1"/>
          <p:cNvGrpSpPr/>
          <p:nvPr/>
        </p:nvGrpSpPr>
        <p:grpSpPr>
          <a:xfrm>
            <a:off x="2852640" y="1749600"/>
            <a:ext cx="792360" cy="860400"/>
            <a:chOff x="2852640" y="1749600"/>
            <a:chExt cx="792360" cy="860400"/>
          </a:xfrm>
        </p:grpSpPr>
        <p:pic>
          <p:nvPicPr>
            <p:cNvPr id="393" name="Овал 1" descr=""/>
            <p:cNvPicPr/>
            <p:nvPr/>
          </p:nvPicPr>
          <p:blipFill>
            <a:blip r:embed="rId1"/>
            <a:stretch/>
          </p:blipFill>
          <p:spPr>
            <a:xfrm>
              <a:off x="2852640" y="1749600"/>
              <a:ext cx="7923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022560" y="1890720"/>
              <a:ext cx="4557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21 0.16998 C 0.31129 0.02336 0.23629 -0.10384 0.13577 -0.11263 C 0.03959 -0.1235 -0.05017 -0.02474 -0.05625 0.11772 C -0.06371 0.24884 -0.000689999999999996 0.37188 0.08941 0.38067 C 0.1717 0.38714 0.24983 0.30527 0.25573 0.1834 C 0.26181 0.07169 0.2092 -0.03353 0.13281 -0.04278 C 0.06233 -0.04903 -0.00382 0.0192 -0.00833 0.12188 C -0.01267 0.21369 0.02917 0.30342 0.09219 0.30805 C 0.14931 0.31452 0.20313 0.26203 0.20781 0.17877 C 0.21077 0.1043 0.17917 0.03215 0.12969 0.02798 C 0.08629 0.02336 0.04271 0.06291 0.03959 0.1265 C 0.03681 0.18108 0.0592 0.23358 0.09531 0.23821 C 0.12535 0.24237 0.15677 0.21832 0.15834 0.17461 C 0.16129 0.13922 0.14931 0.10199 0.12691 0.09783 C 0.10868 0.09783 0.09063 0.10662 0.08785 0.13067 C 0.08629 0.14616 0.08941 0.16143 0.09827 0.1679 C 0.10261 0.16998 0.10573 0.16998 0.11025 0.1679 E">
                                      <p:cBhvr>
                                        <p:cTn id="8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7:35:54Z</dcterms:created>
  <dc:creator>1</dc:creator>
  <dc:description/>
  <dc:language>en-US</dc:language>
  <cp:lastModifiedBy>Пользователь</cp:lastModifiedBy>
  <dcterms:modified xsi:type="dcterms:W3CDTF">2012-10-24T04:41:13Z</dcterms:modified>
  <cp:revision>19</cp:revision>
  <dc:subject/>
  <dc:title>Декодирование информации</dc:title>
</cp:coreProperties>
</file>